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E825-8AED-48C2-8F8C-38FA641C5DB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introduction music with no narration.</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CD6E-D721-4D1B-B610-9A2BF22C0A71}"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will be an introduction of the activexpressions with a video. Yeah that’s me….Just kidding!!</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0587-C8EF-4E38-8EFC-1A4153A2E43A}"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understanding why activexpressions were developed we need to look at the stages in which development occurs. Narration will be included in this slide.</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DBB9-47F4-4221-986F-2251FFA239CD}"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activexpressions came about when the activotes where created and the learner response system sky rocketed learning in the classroom. The need for students to give more than just a multiple choice answer became the needed tool for assessing students work.</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5A96-D8EE-4D40-98A8-34D560CB4E6F}"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will be an introduction of the research that was conducted and the main people who were responsible for creating this innovation.</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D5BE-435C-4EC3-8758-01ED8CEBA923}"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stage would be the trial and error part of making sure things work properly and the product was up to the standards of quality use. This means pulling everything together to make the product ready for commercialization.</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642C-0359-4B4D-A897-91453B2FC8E2}"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ercialization stage is adoption and diffusion  of the product to the consumers. </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8983-F3EB-461E-A3D8-4B7C67A0320C}"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6971D-8E5A-47FD-90DC-866A1189C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97FF6-72BB-450E-8330-C02D661F6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39B0F-5AEF-4BEB-95CD-3A5684CD0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79469-4F17-4C9F-8A68-BBF6884A6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DC29A-C110-4B79-A7B0-5FC7FB205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B4EE5-91B2-4DCC-9F5F-52DCE0155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59FF3-D9D4-4DD9-8FB6-760AC96BB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0FEB7-4A9F-4F79-8034-AF3D0D030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2BEBA-F254-4BB8-9107-05842C1BA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5B786-C35F-417C-82BD-CEB261EB6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38F98-F6F0-45CD-8102-1E71E3A0D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1E9C3-8944-4F00-9E9F-C7F797212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72A3F-C2E0-41A8-8529-684D0940F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98021-6191-4018-9EBC-000B8A161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2A875-607A-4662-9D59-649ED9B75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DEE0B-E565-4177-895E-48A8FB308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4AE41-4C94-4BA9-8F9E-D3DA5FA9C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89B6DB-A3E1-4D1F-9CA5-CEE1F279D3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02DEE-6BD5-4BA5-9337-3A9DF4345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0BCA15-364C-4A28-9E13-44CD8D213D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2DD4E4-DE51-4468-A946-5341061C4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23DD9-B41B-46EF-B98B-F7DCE490E9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26F6B-1E9D-4DE8-8B8F-C2AA64061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977596-9B35-4933-80E6-D5BCB30CA7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A81C2-2F21-417A-A79D-94A4C75D6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0AF2D-0D6B-4BE7-9ACA-139C80AD1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E59D2-5399-4323-AD6A-D3638E87D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D5E7A-1FD5-42D2-AAFE-8A8423525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7BC605-2523-43EE-B0AC-D13949282C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8E08B6-7369-40DF-A6C3-D12D49F9B8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973016-E588-41D7-AC10-A8FC43A46B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CC269C-68A7-44C2-9313-074A6D8E8B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DDD883-EB7C-4CBC-B817-99F6D2497A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37DDE-29F0-49D2-AA20-C8E41F535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B03C15-20BC-498D-8C5D-2A77F4E71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E8D9D-BB91-4D0D-8DFE-5C544B5F02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1CDE0-56E1-42B7-9F1B-D08255FD4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C0BA7-8AA9-4FFB-A3E4-4DA80C981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B14B4-9201-474E-A823-88EFB0B92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75710-EB37-423A-8175-B29B1D198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F10F1-1A80-4E81-A282-6B6CB5E051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DCDD11-4B43-4B31-9E84-98B2C5A714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10A634-C3E8-4872-A048-6EBCB8F2FB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B03D80-136C-4FBA-83B6-24C26D789E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7E0F4-6029-4CE7-AA50-595727DE5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788C1C-FCBD-4A76-80B1-B75EA0CD06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F2546F-EED2-4F79-8254-507861DE7C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3A8103-51E1-451A-8DBE-4F0FF1EB95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D2603-C9D3-4656-B317-3D259D8D13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5B1292-2787-46E0-8C64-B43D734117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9ADD8-D2B2-42EB-B2B4-A8F934B1B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E64636-C452-4499-A998-29099ED2AC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0E3979-6573-49A9-BF68-66872BC0F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EFA867-73A5-4634-8146-1AFF3C591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FDE7B7-AC0A-485B-9F2D-2904713002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09B61-8BE4-438B-A32E-06E1A5942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8AC729-AD91-4365-B957-A0083639F6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BA0EA-CB18-4E72-B7CE-93B252726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38C07-3CD0-4D28-B572-C82B4B925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6068E-0F8B-4861-B8EC-D6F4D8AEA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DF80-1D3D-4DFB-8749-DBA2084062C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7273-4C20-4BDC-8B6C-05EF790C91F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49D1-5B1D-43FD-886A-8D6D4D48B453}"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CFC6-DE70-431D-BAD2-A58D0AAB670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6D62-C5C7-4E69-853F-A86EFC2E216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685440"/>
            <a:ext cx="807732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19859"/>
                </a:solidFill>
                <a:latin typeface="Verdana"/>
              </a:rPr>
              <a:t> </a:t>
            </a:r>
            <a:r>
              <a:rPr b="1" lang="en-US" sz="4500" spc="-1" strike="noStrike">
                <a:solidFill>
                  <a:srgbClr val="c19859"/>
                </a:solidFill>
                <a:latin typeface="Verdana"/>
              </a:rPr>
              <a:t>Learner Reponse System</a:t>
            </a:r>
            <a:endParaRPr b="1" lang="en-US" sz="4500" spc="-1" strike="noStrike">
              <a:solidFill>
                <a:srgbClr val="ff8d3e"/>
              </a:solidFill>
              <a:latin typeface="Verdana"/>
            </a:endParaRPr>
          </a:p>
        </p:txBody>
      </p:sp>
      <p:sp>
        <p:nvSpPr>
          <p:cNvPr id="228" name="PlaceHolder 2"/>
          <p:cNvSpPr>
            <a:spLocks noGrp="1"/>
          </p:cNvSpPr>
          <p:nvPr>
            <p:ph type="subTitle"/>
          </p:nvPr>
        </p:nvSpPr>
        <p:spPr>
          <a:xfrm>
            <a:off x="914040" y="4191120"/>
            <a:ext cx="7467480" cy="1752480"/>
          </a:xfrm>
          <a:prstGeom prst="rect">
            <a:avLst/>
          </a:prstGeom>
          <a:noFill/>
          <a:ln w="0">
            <a:noFill/>
          </a:ln>
        </p:spPr>
        <p:txBody>
          <a:bodyPr lIns="182880" rIns="90000" tIns="0" bIns="4680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79766f"/>
                </a:solidFill>
                <a:latin typeface="Verdana"/>
              </a:rPr>
              <a:t>Activexpressions</a:t>
            </a:r>
            <a:endParaRPr b="0" lang="en-US" sz="57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9766f"/>
                </a:solidFill>
                <a:latin typeface="Verdana"/>
              </a:rPr>
              <a:t>                   </a:t>
            </a:r>
            <a:r>
              <a:rPr b="0" lang="en-US" sz="3000" spc="-1" strike="noStrike">
                <a:solidFill>
                  <a:srgbClr val="79766f"/>
                </a:solidFill>
                <a:latin typeface="Verdana"/>
              </a:rPr>
              <a:t>Storyboard by:      </a:t>
            </a:r>
            <a:r>
              <a:rPr b="0" lang="en-US" sz="2400" spc="-1" strike="noStrike">
                <a:solidFill>
                  <a:srgbClr val="79766f"/>
                </a:solidFill>
                <a:latin typeface="Verdana"/>
              </a:rPr>
              <a:t>Kristin Temples</a:t>
            </a:r>
            <a:endParaRPr b="0" lang="en-US" sz="24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EDUC 7101</a:t>
            </a:r>
            <a:endParaRPr b="0" lang="en-US" sz="24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29" name="Picture 2" descr="http://technowellies.files.wordpress.com/2009/02/inspire.jpg"/>
          <p:cNvPicPr/>
          <p:nvPr/>
        </p:nvPicPr>
        <p:blipFill>
          <a:blip r:embed="rId1"/>
          <a:stretch/>
        </p:blipFill>
        <p:spPr>
          <a:xfrm>
            <a:off x="2362320" y="1600200"/>
            <a:ext cx="3504960" cy="2486160"/>
          </a:xfrm>
          <a:prstGeom prst="rect">
            <a:avLst/>
          </a:prstGeom>
          <a:ln w="0">
            <a:noFill/>
          </a:ln>
        </p:spPr>
      </p:pic>
      <p:pic>
        <p:nvPicPr>
          <p:cNvPr id="230" name="Picture 4" descr="http://farm4.static.flickr.com/3276/2575553631_ed2efe86df_m.jpg"/>
          <p:cNvPicPr/>
          <p:nvPr/>
        </p:nvPicPr>
        <p:blipFill>
          <a:blip r:embed="rId2"/>
          <a:stretch/>
        </p:blipFill>
        <p:spPr>
          <a:xfrm>
            <a:off x="2971800" y="2438280"/>
            <a:ext cx="128268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4100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d3e"/>
                </a:solidFill>
                <a:latin typeface="Verdana"/>
              </a:rPr>
              <a:t>Intro Slide: Video of Activexpressions</a:t>
            </a:r>
            <a:endParaRPr b="1" lang="en-US" sz="2800" spc="-1" strike="noStrike">
              <a:solidFill>
                <a:srgbClr val="ff8d3e"/>
              </a:solidFill>
              <a:latin typeface="Verdana"/>
            </a:endParaRPr>
          </a:p>
        </p:txBody>
      </p:sp>
      <p:pic>
        <p:nvPicPr>
          <p:cNvPr id="232" name="Content Placeholder 3" descr="girl-video-camera-7953561_Full.jpg"/>
          <p:cNvPicPr/>
          <p:nvPr/>
        </p:nvPicPr>
        <p:blipFill>
          <a:blip r:embed="rId1"/>
          <a:stretch/>
        </p:blipFill>
        <p:spPr>
          <a:xfrm>
            <a:off x="3201840" y="530280"/>
            <a:ext cx="2786040" cy="418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6094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Stages of Development of the Activexpressions</a:t>
            </a:r>
            <a:endParaRPr b="1" lang="en-US" sz="3200" spc="-1" strike="noStrike">
              <a:solidFill>
                <a:srgbClr val="ff8d3e"/>
              </a:solidFill>
              <a:latin typeface="Verdana"/>
            </a:endParaRPr>
          </a:p>
        </p:txBody>
      </p:sp>
      <p:pic>
        <p:nvPicPr>
          <p:cNvPr id="234" name="Content Placeholder 3" descr=""/>
          <p:cNvPicPr/>
          <p:nvPr/>
        </p:nvPicPr>
        <p:blipFill>
          <a:blip r:embed="rId1"/>
          <a:stretch/>
        </p:blipFill>
        <p:spPr>
          <a:xfrm>
            <a:off x="480960" y="523800"/>
            <a:ext cx="8229600" cy="4743360"/>
          </a:xfrm>
          <a:prstGeom prst="rect">
            <a:avLst/>
          </a:prstGeom>
          <a:ln w="0">
            <a:noFill/>
          </a:ln>
        </p:spPr>
      </p:pic>
      <p:pic>
        <p:nvPicPr>
          <p:cNvPr id="235" name="Picture 3" descr="C:\Users\Kristin\AppData\Local\Microsoft\Windows\Temporary Internet Files\Content.IE5\UXVJ171L\MPj04394140000[1].jpg"/>
          <p:cNvPicPr/>
          <p:nvPr/>
        </p:nvPicPr>
        <p:blipFill>
          <a:blip r:embed="rId2"/>
          <a:stretch/>
        </p:blipFill>
        <p:spPr>
          <a:xfrm>
            <a:off x="2743200" y="3733920"/>
            <a:ext cx="1523880" cy="1603080"/>
          </a:xfrm>
          <a:prstGeom prst="rect">
            <a:avLst/>
          </a:prstGeom>
          <a:ln w="0">
            <a:noFill/>
          </a:ln>
        </p:spPr>
      </p:pic>
      <p:pic>
        <p:nvPicPr>
          <p:cNvPr id="236" name="Picture 6" descr="southland2.jpg"/>
          <p:cNvPicPr/>
          <p:nvPr/>
        </p:nvPicPr>
        <p:blipFill>
          <a:blip r:embed="rId3"/>
          <a:stretch/>
        </p:blipFill>
        <p:spPr>
          <a:xfrm>
            <a:off x="7162920" y="3733920"/>
            <a:ext cx="1485720" cy="1581120"/>
          </a:xfrm>
          <a:prstGeom prst="rect">
            <a:avLst/>
          </a:prstGeom>
          <a:ln w="0">
            <a:noFill/>
          </a:ln>
        </p:spPr>
      </p:pic>
      <p:pic>
        <p:nvPicPr>
          <p:cNvPr id="237" name="Picture 7" descr="rs_thumbnail.jpg"/>
          <p:cNvPicPr/>
          <p:nvPr/>
        </p:nvPicPr>
        <p:blipFill>
          <a:blip r:embed="rId4"/>
          <a:stretch/>
        </p:blipFill>
        <p:spPr>
          <a:xfrm>
            <a:off x="609480" y="3733920"/>
            <a:ext cx="1447920" cy="1600200"/>
          </a:xfrm>
          <a:prstGeom prst="rect">
            <a:avLst/>
          </a:prstGeom>
          <a:ln w="0">
            <a:noFill/>
          </a:ln>
        </p:spPr>
      </p:pic>
      <p:pic>
        <p:nvPicPr>
          <p:cNvPr id="238" name="Picture 8" descr="P1159849.jpg"/>
          <p:cNvPicPr/>
          <p:nvPr/>
        </p:nvPicPr>
        <p:blipFill>
          <a:blip r:embed="rId5"/>
          <a:stretch/>
        </p:blipFill>
        <p:spPr>
          <a:xfrm>
            <a:off x="4800600" y="3733920"/>
            <a:ext cx="190512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Why Do We NEED It?</a:t>
            </a:r>
            <a:endParaRPr b="1" lang="en-US" sz="3600" spc="-1" strike="noStrike">
              <a:solidFill>
                <a:srgbClr val="ff8d3e"/>
              </a:solidFill>
              <a:latin typeface="Verdana"/>
            </a:endParaRPr>
          </a:p>
        </p:txBody>
      </p:sp>
      <p:sp>
        <p:nvSpPr>
          <p:cNvPr id="24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7f09"/>
                </a:solidFill>
                <a:latin typeface="Verdana"/>
              </a:rPr>
              <a:t>The Problem: A New and Improved Version was needed.</a:t>
            </a:r>
            <a:endParaRPr b="0" lang="en-US" sz="2800" spc="-1" strike="noStrike">
              <a:solidFill>
                <a:srgbClr val="000000"/>
              </a:solidFill>
              <a:latin typeface="Verdana"/>
            </a:endParaRPr>
          </a:p>
        </p:txBody>
      </p:sp>
      <p:pic>
        <p:nvPicPr>
          <p:cNvPr id="241" name="Picture 3" descr="rs_thumbnail.jpg"/>
          <p:cNvPicPr/>
          <p:nvPr/>
        </p:nvPicPr>
        <p:blipFill>
          <a:blip r:embed="rId1"/>
          <a:stretch/>
        </p:blipFill>
        <p:spPr>
          <a:xfrm>
            <a:off x="533520" y="2286000"/>
            <a:ext cx="7696080" cy="1519200"/>
          </a:xfrm>
          <a:prstGeom prst="rect">
            <a:avLst/>
          </a:prstGeom>
          <a:ln w="0">
            <a:noFill/>
          </a:ln>
        </p:spPr>
      </p:pic>
      <p:pic>
        <p:nvPicPr>
          <p:cNvPr id="242" name="Content Placeholder 4" descr=""/>
          <p:cNvPicPr/>
          <p:nvPr/>
        </p:nvPicPr>
        <p:blipFill>
          <a:blip r:embed="rId2"/>
          <a:stretch/>
        </p:blipFill>
        <p:spPr>
          <a:xfrm>
            <a:off x="530280" y="1427040"/>
            <a:ext cx="8192880" cy="401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Research:</a:t>
            </a:r>
            <a:endParaRPr b="1" lang="en-US" sz="3600" spc="-1" strike="noStrike">
              <a:solidFill>
                <a:srgbClr val="ff8d3e"/>
              </a:solidFill>
              <a:latin typeface="Verdana"/>
            </a:endParaRPr>
          </a:p>
        </p:txBody>
      </p:sp>
      <p:sp>
        <p:nvSpPr>
          <p:cNvPr id="244" name=""/>
          <p:cNvSpPr txBox="1"/>
          <p:nvPr/>
        </p:nvSpPr>
        <p:spPr>
          <a:xfrm>
            <a:off x="503280" y="529920"/>
            <a:ext cx="8183520" cy="411804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ethean developed a solution to the need.</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eed to have students respond to learning with more than a multiple choice answer.</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d thinkers:? Waiting on Promethean to give that answer.</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convinced the manufacturer, logical choice to make it because of the high sales of the activote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evelopment:</a:t>
            </a:r>
            <a:endParaRPr b="1" lang="en-US" sz="3600" spc="-1" strike="noStrike">
              <a:solidFill>
                <a:srgbClr val="ff8d3e"/>
              </a:solidFill>
              <a:latin typeface="Verdana"/>
            </a:endParaRPr>
          </a:p>
        </p:txBody>
      </p:sp>
      <p:sp>
        <p:nvSpPr>
          <p:cNvPr id="24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iting on Promethean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let me know of any</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lems that occurred</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he developmen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udience that this</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novation was created</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is K-12 students</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teachers.</a:t>
            </a:r>
            <a:endParaRPr b="0" lang="en-US" sz="2800" spc="-1" strike="noStrike">
              <a:solidFill>
                <a:srgbClr val="000000"/>
              </a:solidFill>
              <a:latin typeface="Verdana"/>
            </a:endParaRPr>
          </a:p>
        </p:txBody>
      </p:sp>
      <p:pic>
        <p:nvPicPr>
          <p:cNvPr id="247" name="Picture 4" descr="promethean-activote.jpg"/>
          <p:cNvPicPr/>
          <p:nvPr/>
        </p:nvPicPr>
        <p:blipFill>
          <a:blip r:embed="rId1"/>
          <a:stretch/>
        </p:blipFill>
        <p:spPr>
          <a:xfrm>
            <a:off x="5029200" y="1219320"/>
            <a:ext cx="365760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ommercialization:</a:t>
            </a:r>
            <a:endParaRPr b="1" lang="en-US" sz="3600" spc="-1" strike="noStrike">
              <a:solidFill>
                <a:srgbClr val="ff8d3e"/>
              </a:solidFill>
              <a:latin typeface="Verdana"/>
            </a:endParaRPr>
          </a:p>
        </p:txBody>
      </p:sp>
      <p:sp>
        <p:nvSpPr>
          <p:cNvPr id="249"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m waiting on Promethean to disclose the production, manufacturing, packaging, marketing, and distribution of the activexpress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Knowledge:</a:t>
            </a:r>
            <a:endParaRPr b="1" lang="en-US" sz="3600" spc="-1" strike="noStrike">
              <a:solidFill>
                <a:srgbClr val="ff8d3e"/>
              </a:solidFill>
              <a:latin typeface="Verdana"/>
            </a:endParaRPr>
          </a:p>
        </p:txBody>
      </p:sp>
      <p:sp>
        <p:nvSpPr>
          <p:cNvPr id="251" name=""/>
          <p:cNvSpPr txBox="1"/>
          <p:nvPr/>
        </p:nvSpPr>
        <p:spPr>
          <a:xfrm>
            <a:off x="503280" y="530280"/>
            <a:ext cx="8183520" cy="480384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owledge of the Activexpressions is acquired by the technology department attending conferences where Promethean demonstrates their product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ers acquire the information from prometheanplanet.co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20:17:44Z</dcterms:created>
  <dc:creator>Kristin</dc:creator>
  <dc:description/>
  <dc:language>en-US</dc:language>
  <cp:lastModifiedBy>staff</cp:lastModifiedBy>
  <dcterms:modified xsi:type="dcterms:W3CDTF">2009-07-07T19:09:39Z</dcterms:modified>
  <cp:revision>59</cp:revision>
  <dc:subject/>
  <dc:title>Learner Reponse Systems</dc:title>
</cp:coreProperties>
</file>